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DAE-C5A3-418F-91F9-F7B6EEFD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30C-ADB4-47D1-9A13-7D194814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A52-88F3-4244-987A-C9894D30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00C-188A-4E45-B81E-B406F27F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BFE-8213-4382-8EC0-F9A53CBD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03E-2931-47C5-B67B-4901D223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268-58BE-422D-8FA0-C15B628C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64E-2530-48D9-ABF1-1E0EB191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DA8-8D4F-4C19-88C8-62C7B5AF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166-03CD-4B0F-9C5D-74D243A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58-FE45-4575-816C-B18367C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8C8-9FF6-455D-888E-B1D4EF3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733C-C688-46C9-A478-A7A946D88A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mpaning Dan 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1606680"/>
            <a:ext cx="184320" cy="21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87650000[1]"/>
          <p:cNvPicPr/>
          <p:nvPr/>
        </p:nvPicPr>
        <p:blipFill>
          <a:blip r:embed="rId1"/>
          <a:stretch/>
        </p:blipFill>
        <p:spPr>
          <a:xfrm>
            <a:off x="755640" y="4292640"/>
            <a:ext cx="17971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Treat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childr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disabil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lear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bas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Dan'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lif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GI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KADO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DAD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MCBD19979_0000[1]"/>
          <p:cNvPicPr/>
          <p:nvPr/>
        </p:nvPicPr>
        <p:blipFill>
          <a:blip r:embed="rId1"/>
          <a:stretch/>
        </p:blipFill>
        <p:spPr>
          <a:xfrm>
            <a:off x="539640" y="4797360"/>
            <a:ext cx="1990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471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search into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hild’s life story ,in order to contribute to the improvement of the praxis of professionals and  to famil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image005"/>
          <p:cNvPicPr/>
          <p:nvPr/>
        </p:nvPicPr>
        <p:blipFill>
          <a:blip r:embed="rId1"/>
          <a:stretch/>
        </p:blipFill>
        <p:spPr>
          <a:xfrm>
            <a:off x="684360" y="4005360"/>
            <a:ext cx="4032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2276280"/>
            <a:ext cx="72738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 research (naturalistic  paradig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(case sta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esearch1"/>
          <p:cNvPicPr/>
          <p:nvPr/>
        </p:nvPicPr>
        <p:blipFill>
          <a:blip r:embed="rId1"/>
          <a:stretch/>
        </p:blipFill>
        <p:spPr>
          <a:xfrm>
            <a:off x="826920" y="3787920"/>
            <a:ext cx="2881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earcher ,diary ,observations , interviews , documents , critical fri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research%20tools"/>
          <p:cNvPicPr/>
          <p:nvPr/>
        </p:nvPicPr>
        <p:blipFill>
          <a:blip r:embed="rId1"/>
          <a:stretch/>
        </p:blipFill>
        <p:spPr>
          <a:xfrm>
            <a:off x="611280" y="3789360"/>
            <a:ext cx="25700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280" y="5444640"/>
            <a:ext cx="1443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268360" y="2133720"/>
            <a:ext cx="489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b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MCj02925740000[1]"/>
          <p:cNvPicPr/>
          <p:nvPr/>
        </p:nvPicPr>
        <p:blipFill>
          <a:blip r:embed="rId1"/>
          <a:stretch/>
        </p:blipFill>
        <p:spPr>
          <a:xfrm>
            <a:off x="826920" y="2781360"/>
            <a:ext cx="26384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b7e9"/>
            </a:gs>
            <a:gs pos="100000">
              <a:srgbClr val="af51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linic for diagnosis of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selor in schools for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ng of parents of DL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ing , circles of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MCj02309230000[1]"/>
          <p:cNvPicPr/>
          <p:nvPr/>
        </p:nvPicPr>
        <p:blipFill>
          <a:blip r:embed="rId1"/>
          <a:stretch/>
        </p:blipFill>
        <p:spPr>
          <a:xfrm>
            <a:off x="395280" y="3645000"/>
            <a:ext cx="2614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050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system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ildren and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mprove thei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ig_artic_31"/>
          <p:cNvPicPr/>
          <p:nvPr/>
        </p:nvPicPr>
        <p:blipFill>
          <a:blip r:embed="rId1"/>
          <a:stretch/>
        </p:blipFill>
        <p:spPr>
          <a:xfrm>
            <a:off x="179280" y="4149720"/>
            <a:ext cx="21402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nd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ta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k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Cj03100420000[1]"/>
          <p:cNvPicPr/>
          <p:nvPr/>
        </p:nvPicPr>
        <p:blipFill>
          <a:blip r:embed="rId1"/>
          <a:stretch/>
        </p:blipFill>
        <p:spPr>
          <a:xfrm>
            <a:off x="468360" y="3141720"/>
            <a:ext cx="26287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40:18Z</dcterms:created>
  <dc:creator>Salon</dc:creator>
  <dc:description/>
  <dc:language>en-US</dc:language>
  <cp:lastModifiedBy>Gila</cp:lastModifiedBy>
  <dcterms:modified xsi:type="dcterms:W3CDTF">2009-10-08T12:34:12Z</dcterms:modified>
  <cp:revision>9</cp:revision>
  <dc:subject/>
  <dc:title>Accompaning dan forever</dc:title>
</cp:coreProperties>
</file>